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566-3785-4569-867D-B3657029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8AB-EE73-4FD1-9CDE-756B013E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EE4-AF3D-4AEE-BC3A-4A9F53A3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A13-0C60-4835-B36F-4AFAF8E5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7DB-2FD5-42C9-B1B0-893BD72C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65D-6789-42D5-8E64-47A67BE9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71A-2A26-47F2-AC15-4104E496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D31-6590-4A4D-8131-0B53020E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C00-68D0-4ED4-8DC1-40A262EA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96B-F94C-41D3-A6A3-DA688032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0C6-2B19-42E1-8B26-D2494001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E5F-226B-48B6-815B-F1296C92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A6FB-8D22-4EF0-A772-84905A16D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" Target="slide22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2" action="ppaction://hlinksldjump"/>
              </a:rPr>
              <a:t>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4" action="ppaction://hlinksldjump"/>
              </a:rPr>
              <a:t>1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6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7" action="ppaction://hlinksldjump"/>
          </p:cNvPr>
          <p:cNvSpPr/>
          <p:nvPr/>
        </p:nvSpPr>
        <p:spPr>
          <a:xfrm>
            <a:off x="1828800" y="12193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8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13" action="ppaction://hlinksldjump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2193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at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eather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230796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Clouds form at this stage of the water cyc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condensatio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192852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scientist who studies and reports weather condit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o is a meteorologis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276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724280" cy="2401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5960" y="4190400"/>
            <a:ext cx="55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 Bold"/>
              </a:rPr>
              <a:t>Represent thi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warm fro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283500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 Bold"/>
              </a:rPr>
              <a:t>Symbol represents this type of weath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4191120" cy="213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at is damp and cloud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580560"/>
            <a:ext cx="624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 Bold"/>
              </a:rPr>
              <a:t>Represents thi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267080" cy="188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cold fro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230616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"/>
              </a:rPr>
              <a:t>The 4 main steps of a water cyc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192996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ey connect locations with the same temperatu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192528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are the black curving lines on a weather map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large and billowy clou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cumulu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484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163520"/>
            <a:ext cx="6248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e type of cloud that are flat layers that form blankets low in the sk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stratu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29001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30472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High, feathery clouds made of ice crystal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are cirrus cloud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ese clouds bring ra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30292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are nimbostratus cloud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1542600"/>
            <a:ext cx="62481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are evaporation, condensation, precipitation, and storag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Is nicknamed “Thunderhead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cumulonimbu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230292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n instrument used to measure temperatu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thermomete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00200" y="49381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Looks like thi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27302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barometer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1161720"/>
            <a:ext cx="6248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tool that measures the amount of rain or snow that falls to the grou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rain gaug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1542960"/>
            <a:ext cx="62481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device that shows the direction from which the wind is blow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wind va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192708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ny form of water that falls to the Ear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782640"/>
            <a:ext cx="62481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ools we would use if the weather report says, “It is 65 degrees F, with winds from the SW at 10 mph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1541160"/>
            <a:ext cx="62481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are a thermometer, wind vane and an anemomete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230148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Water vapor that is in the ai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humidit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7920" y="192708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thick blanket of air that surrounds the ear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tmosphe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230292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e area where two air masses mee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fro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1541160"/>
            <a:ext cx="62481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huge body of air that has nearly the same temperature and humidit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n air ma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precipitatio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230436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e air pressure during a stor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low pressu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192852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is is water in the form of an invisible ga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water vapo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230616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When liquid water changes to water vap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evaporatio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Kevin Butler-Grant County High School</dc:creator>
  <dc:description/>
  <dc:language>en-US</dc:language>
  <cp:lastModifiedBy>Edgewood User</cp:lastModifiedBy>
  <dcterms:modified xsi:type="dcterms:W3CDTF">2008-08-12T18:15:05Z</dcterms:modified>
  <cp:revision>45</cp:revision>
  <dc:subject/>
  <dc:title>Napoleon</dc:title>
</cp:coreProperties>
</file>